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CBD-FB9D-4135-957A-1355DEB2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D6B-1BCF-42B3-B828-C7443D77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11B-A23C-4AC3-B441-5B4B5CC4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DB1-7932-42BD-9B05-A4BC642A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5BF-9A56-4CDC-9125-E11F091C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167-7C76-4798-8D23-697ED8A3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B0E-4A53-4378-BE06-E48FFBB5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ECD-BE68-4BC8-93A8-42EA6287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E56-7A16-45A0-A960-B6E8D504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01F-0DBD-454B-86AD-0C964C1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DFB-0917-4278-A8F0-8C4B81ED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53B-E156-4AF8-BF1B-E948CA9A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535-13EF-4979-B728-6F060881A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reeonlinesurveys.com/" TargetMode="External"/><Relationship Id="rId2" Type="http://schemas.openxmlformats.org/officeDocument/2006/relationships/hyperlink" Target="http://www.zoomerang.com/online-surveys/" TargetMode="External"/><Relationship Id="rId3" Type="http://schemas.openxmlformats.org/officeDocument/2006/relationships/hyperlink" Target="http://www.esurveyspro.com/" TargetMode="External"/><Relationship Id="rId4" Type="http://schemas.openxmlformats.org/officeDocument/2006/relationships/hyperlink" Target="http://www.surveymonkey.com/s.aspx?sm=jEqVcc" TargetMode="External"/><Relationship Id="rId5" Type="http://schemas.openxmlformats.org/officeDocument/2006/relationships/hyperlink" Target="http://polldaddy.com/" TargetMode="External"/><Relationship Id="rId6" Type="http://schemas.openxmlformats.org/officeDocument/2006/relationships/hyperlink" Target="https://www.google.com/accounts/ServiceLogin?service=writely&amp;passive=true&amp;nui=1&amp;continue=http%3A%2F%2Fdocs.google.com%2F%3Fhl%3Den%26tab%3Dwo&amp;followup=http%3A%2F%2Fdocs.google.com%2F%3Fhl%3Den%26tab%3Dwo&amp;ltmpl=homepage&amp;rm=false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Online Surve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Billanook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October 1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rvey Monke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24456" r="0" b="3288"/>
          <a:stretch/>
        </p:blipFill>
        <p:spPr>
          <a:xfrm>
            <a:off x="179280" y="1628640"/>
            <a:ext cx="8785440" cy="522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6764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60680" y="620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ick her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up an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56720" y="1197000"/>
            <a:ext cx="0" cy="151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24441" r="0" b="4228"/>
          <a:stretch/>
        </p:blipFill>
        <p:spPr>
          <a:xfrm>
            <a:off x="250920" y="620640"/>
            <a:ext cx="8713800" cy="504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6165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6093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ick here to create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0920" y="5084280"/>
            <a:ext cx="1513080" cy="1081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549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f you already have an account,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23478" r="0" b="3609"/>
          <a:stretch/>
        </p:blipFill>
        <p:spPr>
          <a:xfrm>
            <a:off x="179280" y="1700280"/>
            <a:ext cx="878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24049" r="0" b="4459"/>
          <a:stretch/>
        </p:blipFill>
        <p:spPr>
          <a:xfrm>
            <a:off x="179280" y="2060640"/>
            <a:ext cx="8748720" cy="390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76360" y="692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n you login you get an account summary; to create a survey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16000" y="1268280"/>
            <a:ext cx="4176720" cy="12970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6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ce you have created a survey, you have the option to copy existing surveys, otherwise, simply check create a new survey from scratch    and then choose a title for th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165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ly, click “Create surv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23544" r="0" b="3704"/>
          <a:stretch/>
        </p:blipFill>
        <p:spPr>
          <a:xfrm>
            <a:off x="179280" y="2133720"/>
            <a:ext cx="8232840" cy="3743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4067280" y="5589360"/>
            <a:ext cx="36036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71280" y="1413000"/>
            <a:ext cx="5545080" cy="374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5640" y="1484280"/>
            <a:ext cx="1728720" cy="316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23756" r="0" b="5031"/>
          <a:stretch/>
        </p:blipFill>
        <p:spPr>
          <a:xfrm>
            <a:off x="179280" y="1916280"/>
            <a:ext cx="8734680" cy="3887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58920" y="83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lect a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68360" y="1125360"/>
            <a:ext cx="648000" cy="266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9600" y="83664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ive the page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339640" y="1125360"/>
            <a:ext cx="3311640" cy="295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22982" r="0" b="4455"/>
          <a:stretch/>
        </p:blipFill>
        <p:spPr>
          <a:xfrm>
            <a:off x="468360" y="1916280"/>
            <a:ext cx="8375760" cy="446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126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estion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708360" y="1628640"/>
            <a:ext cx="1943280" cy="12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lect Respon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628640"/>
            <a:ext cx="75614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llect responses by placing a link in an email or embedding a link in a webpage or wiki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default setting for survey monkey surveys which does not allow multiple responses per computer – this is to guard against individuals completing multiple survey responses and therefore skewing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 a school where multiple students need to access the same computers it is often necessary to change this setting. Simply go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change setting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alyse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700280"/>
            <a:ext cx="7993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ee basic 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can view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respondents expressed both in raw numbers and percen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wse all individual respo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are arranged chronologically according to date / time of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eatures are only available if you upgrade to a professional account which $20 US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ll Dadd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23020" r="0" b="4748"/>
          <a:stretch/>
        </p:blipFill>
        <p:spPr>
          <a:xfrm>
            <a:off x="179280" y="1628640"/>
            <a:ext cx="8772480" cy="3961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587700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urveys or take quick polls – can be embedded into websites and 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survey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557360"/>
            <a:ext cx="835164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There are occasions when surveying is a very useful to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lassroom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teacher with a special responsibility or leadership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Surveys can be use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ollect information from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 a learning activity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ollect information from collea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ollect information from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gle do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Google Docs account and use a form to create a surv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urvey can be embedded in a wiki or a link emailed to respon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23180" r="0" b="4540"/>
          <a:stretch/>
        </p:blipFill>
        <p:spPr>
          <a:xfrm>
            <a:off x="324000" y="1557360"/>
            <a:ext cx="8447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vantages of online surve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uces paper use, so more environmentally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 can be obtained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be done anywhere,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collate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clude geographically dispar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be linked from school website or wiki to encourage greater access of this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llecting information from student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557360"/>
            <a:ext cx="8352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occasions where you may want to collect information from your stud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on learning 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ve assessments to assist your design of new uni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flections on learning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s and preferences to inform democrat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class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in your class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sibilities are endles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………………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arning activities for stud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484280"/>
            <a:ext cx="77770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students may be collecting information as part of a learning activity and may need to design a surve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students collect cou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m the basis of a Maths grap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SRC students to make recommendation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 evidence for a persuasive text 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gumentative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ellow students’ knowledge of a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ce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Collecting information from colleagues</a:t>
            </a:r>
            <a:endParaRPr b="0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628640"/>
            <a:ext cx="79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with a special responsibility or leadership position may need to collect data from colleagues,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ategies used in various areas of teaching an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eedback / evaluation of school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on student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ade and allotment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s of dates venues for staff function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inions re new building designs /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nions re priorities for budget expend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llecting information from parent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628640"/>
            <a:ext cx="7993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might be surveyed to ascertain information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they can support their children with thei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instance, skill level development in area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umeracy or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in which they could volunteer support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about facilities around th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raisin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aboration on department parent opinion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line Survey O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online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oomer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urveys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oll Da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oogle Do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d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try a surve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 to the following link and complete the surv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r go to the wiki and click on the survey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yarrarangesnetwork@wikispaces.com </a:t>
            </a:r>
            <a:r>
              <a:rPr b="0" lang="en-AU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upcoming 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t’s analyse the dat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 to http://www.surveymonkey.com/Default.asp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0:19:26Z</dcterms:created>
  <dc:creator>02167970</dc:creator>
  <dc:description/>
  <dc:language>en-US</dc:language>
  <cp:lastModifiedBy>02167970</cp:lastModifiedBy>
  <dcterms:modified xsi:type="dcterms:W3CDTF">2009-10-15T00:37:01Z</dcterms:modified>
  <cp:revision>25</cp:revision>
  <dc:subject/>
  <dc:title>Creating Online Surveys</dc:title>
</cp:coreProperties>
</file>